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17D-9073-414C-AA5A-0635151F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63B-235B-47D7-B967-8BCD1B8F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229-EEFA-4F31-A797-F2ED7923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179-57B5-4761-8C7C-C8F6DE7D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AA0B-933F-4629-9F2C-52EA2AF2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82D4-66FF-45B6-80BF-A40DAFCB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31F0-11CD-4ACB-A494-99FA3DF8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5806-FA1A-449F-A1E8-936745A3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5B6-C6F0-4679-A2E3-63B80459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9F48-8D77-4A84-A4FD-E0EF3CA9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E9EF-FFC8-4F23-A5B3-7594DC0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5C6-5AD8-4DD2-8373-384A360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802-0587-4D3D-8206-ABE4C1E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A650-0E27-4310-AC22-0AEA1CD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0E83-173C-4370-A364-CCBCDCE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8ED9-C93A-4ECE-8A71-49FE8D5E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11E9-CF74-4DA7-B9DF-E014389C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AEA2-69D4-4011-B4ED-EB7EA400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1F41-AABE-4003-8219-23AAA69A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BC01-195B-41C3-B9F0-312B9408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F5EE-A83D-4DE1-BC73-ECDCB407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C269-2A83-4FA6-9A8F-1AE63D2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6B2-DAB4-4880-B706-39A5A3C3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5F57-9408-4BBD-AF06-CE016EE5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FD25-3E0E-4AF2-BC69-EC167BF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21C5-DFF1-40F3-B72B-2D8DB72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E368-1C15-4677-96B7-A4007E16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36E0-4B52-415C-A3C6-E09A13A1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07E8-87AF-43B8-B0FA-9DE080E5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ACAE-C9C1-4E8D-A6D6-876AE96A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E942-5EAA-44DE-86E4-F5967FDD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924B-1196-4D8C-B18E-FF3F936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7F11-A9A7-48B3-BEBC-1533D3F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BCA-9389-4654-888B-B4B9F7E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33C8-2646-40F3-ACC9-4171ED1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61F6-FAC0-489C-87C0-6C3F38C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9D99E-A8EE-4BED-AC6E-3155836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05FA-F06C-4E36-96AB-8442BE7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79F3-7F00-4826-9342-43C6EFC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817F-E525-44C6-8568-2FEE9ED7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B34C-28E8-43DE-9331-37C6DC0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BC21-E91A-4C6B-B5D3-D0CC1115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27D7-C673-4C9E-839E-C434A173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374F-E84B-4FCF-99F3-A7A44598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184-D977-4234-A850-689ECB4B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9FF9-D882-4B46-8BCE-093B823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973B-2062-4245-9BAE-A01FCF3E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10C1-8DE5-4633-B1F0-5EBE366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5273-E560-4BC4-BF78-9DD3FA83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605C4-1D64-4748-9F61-3391E5BC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6488-32BE-4829-8B89-B413F28D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FCF8-F9EE-488F-A982-3528C4F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F623-7F45-4F95-B203-1DE9024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3CE7-D9CD-4A5C-AC1B-718A7DD3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3E75-2A3E-4859-BAEB-857AE671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D37-203A-4DDF-9DA4-7BC0823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3D27-7CDE-4FAB-B3C7-DD1C8C4C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C44C-885B-423C-BA72-5597DE3E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9271-A1F9-4BD5-8E6D-E052EEB4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0686D-F909-43ED-96EB-683BB05D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444E-0560-4556-8E28-95A39DA1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A85F-36F8-4531-A967-899AE096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8199-0DAF-4174-997E-D9DC6A3F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A777-6D01-4216-8BD6-A98AC9C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DC8A9-7CEC-43DB-839F-437C7F7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B8AD1-08FD-45DF-A7BB-759C40D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51A-55E1-486B-9D45-52140EBD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6E280-3187-4505-9698-A2DBACAA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3145E-D417-49D0-845B-497A4005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D24B-9E74-4038-B7A0-98797559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3F866-B862-4395-890E-C9282B31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C1778-7FD5-4CBE-8F3A-72756B8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160FD-4667-43DF-8B10-84D9C52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D62E3-2AB9-4C3A-9B2C-3842F4DD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B55FC-A7A6-4575-A47F-6D4EBC2C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124D6-12CB-4960-AA56-0322CA12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6A7F-8271-4E08-8B59-EFB6FE4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38A-212F-4975-ACF0-CBB6195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22775-5EE0-4AD7-944E-C8CEE09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67BAE-A7C5-4D1B-806B-AF4194B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A60F-6FB7-4882-8D82-4628E76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744C-ABD4-4274-89D3-ED0EC9B8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83FCD-F72B-409D-B881-1F6F7773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6082A-F667-48E2-8543-E0AB4029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3AA31-534B-42B6-85DB-7483676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D1226-231C-4206-94E0-29433AD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05C1B-A177-4D0B-BD16-96C9E46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9B04-CA29-4AE8-91F5-09BBB39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A97-1A43-4F09-BCEA-ADEC98E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53C61-86E6-457F-BD53-AA956BCD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D8FA1-BED2-4413-8C96-2CEE9F46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2527-D950-4E3B-B930-025FC2B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867DE-18B7-48BE-93A7-720DA63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D7E9A-E9EC-46CE-A0AF-BB911E9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F649-FC3E-4661-9946-4253B769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EDBD-F70B-4963-9316-7F51653D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1A4-2019-4483-AF49-B80455B7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F479-0752-4F77-851E-04FBC2851E7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462-DE24-4800-B0CB-A7406F25B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DD3-F36C-4408-B229-D8D8E2D18F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4A5C-EB71-4F8C-B534-241777937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E5F-B124-40E8-AA4E-1C7EFB36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8756-1030-49C9-A2D9-4D2F144A6FA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FE2A-CFAF-4545-B094-72B64F47FAF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 2 sticky no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rowse the visual represent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spond twice (one per sticky note)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bserv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flec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457200" y="1981080"/>
          <a:ext cx="8229600" cy="4846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O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DI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ar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emporary High School Stud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hakespe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inste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log P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turistic Rob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ture Gene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acebook Newsf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oogle CEO Eric Schmid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obo-Le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a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estion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ur Questions and Concern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signing Group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icipation—what about reluctant/shy students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lanning but not Pre-determi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ing Students On-task (when and how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me, Small vs. Full Grou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gagement and Go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rading Discuss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ral Anxiety and Feelings of Being Overwhelm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urpose—give students a clear focus for what they will be discussing, always connecting to the Essential Ques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cess—clear and explicit directions for their role(s) and task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liverable—Accountability is ESSENTIAL to an on-task discuss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lent Discussion Thread Protoc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rite a Self, Self-World or “On My Own” question that relates to the topic of Progress.  Label what type of question it 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lently, pass your paper to the right.  Read the question, respond and write a follow-up question.  Label what type of question it 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lently, pass your paper to the right.  Repeat.  Return to owner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urpos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urther explore Essential Question “Is Progress Always Good?” based on reading of articles (Essential Question Specifi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dentify patterns, summarize key details, synthesize understanding of texts (Task-Specifi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ces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rom the articles, choose the one that is most interesting to you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nd the people who have the same color article as yo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ake turns reading aloud, stopping when the text cues you to do so and taking notes on the “Think-Aloud cued response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liverabl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ach person will need to be prepared to share the article and their discussion notes with another 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re we use nonlinguistic representations while learning, the better we can think about and recall knowledge.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Marzano et al, 200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ces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nd 2 people who have DIFFERENT COLORED articles than yo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llow the protocol on the Visual Representation handout, with each person creating a version of the visual to share with other group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liverable: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ach group member should have a version of the visual representation you negotiated and be prepared to explain it to others in the class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0:01:36Z</dcterms:created>
  <dc:creator>Phil Bear</dc:creator>
  <dc:description/>
  <dc:language>en-US</dc:language>
  <cp:lastModifiedBy>Phil Bear</cp:lastModifiedBy>
  <dcterms:modified xsi:type="dcterms:W3CDTF">2011-04-05T01:07:03Z</dcterms:modified>
  <cp:revision>8</cp:revision>
  <dc:subject/>
  <dc:title>What Do We Need to Accomplish Today?</dc:title>
</cp:coreProperties>
</file>